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4E5-BACA-4442-AAC0-0C57E8FD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0C6-B036-4AD6-90B7-0AB1B758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AE86-BC29-49A4-8715-B237B276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2B8-1D4F-4B1C-854A-DAF03196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1F0-C9EF-4A2A-AA37-0F33DCA9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35F-1EC5-40AD-AC8E-15D8D9C0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2CDD-E5A7-4258-986D-EC36915B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27D-243A-48EF-9F33-66C3814F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B27-DC3C-4C68-9B87-AE676105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17B-57E4-4B67-A3E1-8FCE3C1D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256-F2AC-4289-951F-529E6095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41A-2816-4D14-8A59-A3B5C78C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386B-97BC-4359-A93E-0104CA877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a89fd"/>
                </a:solidFill>
                <a:latin typeface="Marker Felt"/>
              </a:rPr>
              <a:t>aNnA’s AwEsOmE pOwErPoInT 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89fd"/>
                </a:solidFill>
                <a:latin typeface="Marker Felt"/>
              </a:rPr>
              <a:t>POSSESSIVE</a:t>
            </a:r>
            <a:br>
              <a:rPr sz="3200"/>
            </a:br>
            <a:r>
              <a:rPr b="0" lang="en-US" sz="3200" spc="-1" strike="noStrike">
                <a:solidFill>
                  <a:srgbClr val="1a89fd"/>
                </a:solidFill>
                <a:latin typeface="Marker Felt"/>
              </a:rPr>
              <a:t>APOSTROP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iano of Anna = Anna’s p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Find the owner                          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dd the apostrophe                 Ann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dd the ‘s’ if there isn’t one          Anna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2514600"/>
            <a:ext cx="2667240" cy="228600"/>
          </a:xfrm>
          <a:prstGeom prst="rightArrow">
            <a:avLst>
              <a:gd name="adj1" fmla="val 50000"/>
              <a:gd name="adj2" fmla="val 2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505320"/>
            <a:ext cx="1828800" cy="533160"/>
          </a:xfrm>
          <a:prstGeom prst="rightArrow">
            <a:avLst>
              <a:gd name="adj1" fmla="val 50000"/>
              <a:gd name="adj2" fmla="val 857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480060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laptop of Olivia = Olivia’s lap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Find the owner               Oli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dd the apostrophe           Olivi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Add the ‘s’ if there isn’t one        Olivia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2057400"/>
            <a:ext cx="1447560" cy="380880"/>
          </a:xfrm>
          <a:prstGeom prst="rightArrow">
            <a:avLst>
              <a:gd name="adj1" fmla="val 50000"/>
              <a:gd name="adj2" fmla="val 95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327672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44956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dog of Sean = Seans do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80"/>
                </a:solidFill>
                <a:latin typeface="Arial"/>
              </a:rPr>
              <a:t>Find the owner                            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dd the apostrophe                    S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dd the ‘s’ if there isn’t one          S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057400"/>
            <a:ext cx="2743200" cy="533520"/>
          </a:xfrm>
          <a:prstGeom prst="rightArrow">
            <a:avLst>
              <a:gd name="adj1" fmla="val 50000"/>
              <a:gd name="adj2" fmla="val 1285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31240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72200" y="434340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Write the base words                     can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Make a space                                   can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Take out the letters that you                 can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on’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lace the missing let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th and apostrophe                          ca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743200"/>
            <a:ext cx="2666880" cy="533520"/>
          </a:xfrm>
          <a:prstGeom prst="rightArrow">
            <a:avLst>
              <a:gd name="adj1" fmla="val 50000"/>
              <a:gd name="adj2" fmla="val 1249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9810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505320"/>
            <a:ext cx="1067040" cy="5331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518148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Write the base words                     don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Make a space                                   do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Take out the letters that you               do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on’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lace the missing let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th and apostrophe                            do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743200"/>
            <a:ext cx="2666880" cy="533520"/>
          </a:xfrm>
          <a:prstGeom prst="rightArrow">
            <a:avLst>
              <a:gd name="adj1" fmla="val 50000"/>
              <a:gd name="adj2" fmla="val 1249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19810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3505320"/>
            <a:ext cx="1067040" cy="5331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518148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trac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Write the base words                       could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Make a space could not                   could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Take out the letters that you               could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on’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lace the missing let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th and apostrophe                        coul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2743200"/>
            <a:ext cx="2666880" cy="533520"/>
          </a:xfrm>
          <a:prstGeom prst="rightArrow">
            <a:avLst>
              <a:gd name="adj1" fmla="val 50000"/>
              <a:gd name="adj2" fmla="val 1249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198108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3505320"/>
            <a:ext cx="1067040" cy="5331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5181480"/>
            <a:ext cx="1066680" cy="5335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4:02:48Z</dcterms:created>
  <dc:creator>502</dc:creator>
  <dc:description/>
  <dc:language>en-US</dc:language>
  <cp:lastModifiedBy>502</cp:lastModifiedBy>
  <dcterms:modified xsi:type="dcterms:W3CDTF">2009-08-12T04:23:29Z</dcterms:modified>
  <cp:revision>7</cp:revision>
  <dc:subject/>
  <dc:title>aNnA’s AwEsOmE pOwErPoInT oN…</dc:title>
</cp:coreProperties>
</file>